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5C6-2885-471A-BF7F-1CF09D08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1C3-CBE6-4C90-A3CB-C26FA6C6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06B-772A-4CFA-8140-80D5E137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A56-1371-42A6-A5B3-7D035710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2882-3E97-4733-BA53-60747700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E327-E170-4609-BC64-2730FE74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C4161-BD98-4EA5-AABD-273A8F53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254C8-9238-4921-B79C-FD49146A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6CF8-4C34-4EFD-9EF3-09D8BE98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79959-5185-4749-9423-82F7840A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3C326-3E6C-48AD-82F6-BF3E63F0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A3C-E5E4-49E3-8A66-DD248CCC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2869F-9BEF-4121-956E-712DD4B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2EA78-B60F-4BBB-89B2-B44ED0E7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A59C9-8FE4-4F2E-ACAE-C8705A9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E9ABA-3936-4B8A-8A18-5CD27CBE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90275-78A2-4F23-9704-0C50BDD4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10E-7687-432A-9354-DC47512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D0C-7CA5-45D3-89D5-CF77118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F5E-3DF5-4C17-8A87-E0C31A4B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231-68BE-4109-8B57-E2BF4C2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CE0-2407-4E48-9504-B73A012C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809-C366-4B23-803D-C932074E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D1B-8627-44A1-84DF-9AB12BE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3846-23B2-4965-B7B4-FE7FBE592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CE08-2B57-42AD-89D2-E6BAC088C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Ca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Gregorio Faw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60962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garaje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grande y estupend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693396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sion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grande y magnifico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383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cocina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impresionante y bella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39152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comedor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incredible y grand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211464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sala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magnifico y bell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2184480"/>
            <a:ext cx="708660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bano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lujoso y magnifico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553080" cy="32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638680" y="37339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cuarto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incredible y fabulos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538280"/>
            <a:ext cx="716292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a jardin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muy magnifico y incredib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90720" y="2044800"/>
            <a:ext cx="670536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un patio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s fabuloso y grande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80010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5:31Z</dcterms:created>
  <dc:creator>fawkesgre</dc:creator>
  <dc:description/>
  <dc:language>en-US</dc:language>
  <cp:lastModifiedBy>fawkesgre</cp:lastModifiedBy>
  <dcterms:modified xsi:type="dcterms:W3CDTF">2012-03-28T17:39:35Z</dcterms:modified>
  <cp:revision>29</cp:revision>
  <dc:subject/>
  <dc:title>Mi Casa</dc:title>
</cp:coreProperties>
</file>